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1485-8C87-4679-9C8B-07ADFD69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B26-F74E-49C5-B5B6-F95DF293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6E26-FC35-4F81-A3CE-CD5F6E51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FCB-E712-41AD-94B6-B19945E3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1325-13B5-4EA9-A194-87445C10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C14E-7353-4EC0-BBEA-04EA3458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2C4A-73CF-44CA-9409-0F146C58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3D00-E458-4019-8E6D-81C3BFB0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D858-D132-4314-9264-D61B280D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F87A-AE71-4AA9-88EB-3BE4788B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3BE2-A809-4CD0-BC5C-C5F4101A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AC6-F1C3-40D2-977D-2A2E09BA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CB04-BB26-4661-8906-71118DC3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D111-CA81-4FC2-BE47-A8B0F1F3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F6B8-175D-42FB-9AA4-FBBD5D70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2828-A877-4909-BC02-F4B5C304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8D14-B4E0-44C4-93ED-FA522CE2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11A-698E-404F-918E-BAFA5006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E26-1008-48B3-80A4-35E3CE44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C15-6B04-44E3-BEBE-4949A4FD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F82-6514-4B2A-8F12-432CC02A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91C-9845-47B6-9BE2-678579D4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97E0-00F7-4A54-B09B-34F17B6D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49E-488F-4442-A373-6B327EB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89AB-D1E2-4218-839C-CC273BC9A0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3441-3D01-4988-BBAD-614AF17870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0400" y="152280"/>
          <a:ext cx="13017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3017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 (redundant mapping to protein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26708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4114800"/>
            <a:ext cx="0" cy="10666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41911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1981080"/>
            <a:ext cx="10670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2514600"/>
            <a:ext cx="18288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029200" y="2590560"/>
            <a:ext cx="0" cy="15238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251460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1752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=&gt;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ry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able, not stellar performance on PostGreSQL with index on  (srcfeature_id, min, max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ation of more sophisticated approaches yielded performance improvements in MySQL but not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GreSQL functions simplify queries, e.g.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elect * from contains(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</a:rPr>
              <a:t>src,min,max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Dogma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ew seconds for 3 levels, al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inute to include all overlapping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 rot="3675000">
            <a:off x="2955240" y="44341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295280"/>
            <a:ext cx="266688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3886200"/>
            <a:ext cx="76176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A/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411120"/>
            <a:ext cx="208080" cy="190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642960"/>
            <a:ext cx="208080" cy="19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876240"/>
            <a:ext cx="208080" cy="19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179280"/>
            <a:ext cx="208080" cy="189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0360" y="1522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0360" y="39060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0360" y="60156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0360" y="8128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3336840" y="1045800"/>
            <a:ext cx="1555920" cy="1533600"/>
          </a:xfrm>
          <a:prstGeom prst="rightArrow">
            <a:avLst>
              <a:gd name="adj1" fmla="val 53880"/>
              <a:gd name="adj2" fmla="val 39361"/>
            </a:avLst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33640" y="2514600"/>
            <a:ext cx="243864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24320" y="142920"/>
            <a:ext cx="1380960" cy="92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ado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4" idx="4"/>
            <a:endCxn id="345" idx="1"/>
          </p:cNvCxnSpPr>
          <p:nvPr/>
        </p:nvCxnSpPr>
        <p:spPr>
          <a:xfrm>
            <a:off x="4571640" y="316188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483876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5" idx="0"/>
          </p:cNvCxnSpPr>
          <p:nvPr/>
        </p:nvCxnSpPr>
        <p:spPr>
          <a:xfrm>
            <a:off x="4095360" y="2101320"/>
            <a:ext cx="93420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3429000" y="182736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do XML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2" idx="2"/>
            <a:endCxn id="347" idx="0"/>
          </p:cNvCxnSpPr>
          <p:nvPr/>
        </p:nvCxnSpPr>
        <p:spPr>
          <a:xfrm flipH="1">
            <a:off x="4095000" y="1066320"/>
            <a:ext cx="198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50" idx="3"/>
          </p:cNvCxnSpPr>
          <p:nvPr/>
        </p:nvCxnSpPr>
        <p:spPr>
          <a:xfrm>
            <a:off x="3467160" y="316188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308628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>
            <a:off x="3276000" y="2101320"/>
            <a:ext cx="81972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2" idx="2"/>
            <a:endCxn id="350" idx="0"/>
          </p:cNvCxnSpPr>
          <p:nvPr/>
        </p:nvCxnSpPr>
        <p:spPr>
          <a:xfrm flipH="1">
            <a:off x="3276360" y="1066680"/>
            <a:ext cx="838800" cy="156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1866960" y="4584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3" idx="3"/>
            <a:endCxn id="355" idx="2"/>
          </p:cNvCxnSpPr>
          <p:nvPr/>
        </p:nvCxnSpPr>
        <p:spPr>
          <a:xfrm flipV="1">
            <a:off x="2552760" y="3238200"/>
            <a:ext cx="534240" cy="172800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56" name=""/>
          <p:cNvCxnSpPr>
            <a:stCxn id="357" idx="0"/>
            <a:endCxn id="350" idx="2"/>
          </p:cNvCxnSpPr>
          <p:nvPr/>
        </p:nvCxnSpPr>
        <p:spPr>
          <a:xfrm flipH="1" flipV="1">
            <a:off x="3276360" y="3695400"/>
            <a:ext cx="83232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5" idx="2"/>
            <a:endCxn id="357" idx="0"/>
          </p:cNvCxnSpPr>
          <p:nvPr/>
        </p:nvCxnSpPr>
        <p:spPr>
          <a:xfrm flipH="1">
            <a:off x="4107960" y="3695760"/>
            <a:ext cx="92160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endCxn id="355" idx="1"/>
          </p:cNvCxnSpPr>
          <p:nvPr/>
        </p:nvCxnSpPr>
        <p:spPr>
          <a:xfrm flipV="1">
            <a:off x="2438280" y="3161520"/>
            <a:ext cx="610560" cy="7246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60" name=""/>
          <p:cNvSpPr/>
          <p:nvPr/>
        </p:nvSpPr>
        <p:spPr>
          <a:xfrm>
            <a:off x="5638680" y="2809800"/>
            <a:ext cx="685800" cy="704880"/>
          </a:xfrm>
          <a:prstGeom prst="flowChartMagneticDisk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ad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2362320"/>
            <a:ext cx="1695600" cy="16002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B Web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Gene 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ome 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58200" y="3009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45" idx="3"/>
            <a:endCxn id="360" idx="2"/>
          </p:cNvCxnSpPr>
          <p:nvPr/>
        </p:nvCxnSpPr>
        <p:spPr>
          <a:xfrm>
            <a:off x="5219640" y="3161880"/>
            <a:ext cx="419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60" idx="4"/>
            <a:endCxn id="361" idx="1"/>
          </p:cNvCxnSpPr>
          <p:nvPr/>
        </p:nvCxnSpPr>
        <p:spPr>
          <a:xfrm>
            <a:off x="6324120" y="31618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6800760" y="4800600"/>
            <a:ext cx="1295640" cy="14479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erence seque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Annotation Up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45" idx="3"/>
            <a:endCxn id="365" idx="2"/>
          </p:cNvCxnSpPr>
          <p:nvPr/>
        </p:nvCxnSpPr>
        <p:spPr>
          <a:xfrm>
            <a:off x="5219640" y="3162240"/>
            <a:ext cx="1581840" cy="23630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6762600" y="380880"/>
            <a:ext cx="1371600" cy="10670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TP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atfile ex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ollo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tgreSQL D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able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45" idx="3"/>
            <a:endCxn id="367" idx="1"/>
          </p:cNvCxnSpPr>
          <p:nvPr/>
        </p:nvCxnSpPr>
        <p:spPr>
          <a:xfrm flipV="1">
            <a:off x="5219640" y="914040"/>
            <a:ext cx="1543680" cy="22485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1790640" y="1649520"/>
            <a:ext cx="838440" cy="838080"/>
          </a:xfrm>
          <a:prstGeom prst="flowChartMagneticDisk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4"/>
            <a:endCxn id="355" idx="0"/>
          </p:cNvCxnSpPr>
          <p:nvPr/>
        </p:nvCxnSpPr>
        <p:spPr>
          <a:xfrm>
            <a:off x="2629080" y="2068200"/>
            <a:ext cx="457920" cy="101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9480" y="1295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terature C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00680" y="5943600"/>
            <a:ext cx="22860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5791320"/>
            <a:ext cx="914400" cy="85248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B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dnat" descr=""/>
          <p:cNvPicPr/>
          <p:nvPr/>
        </p:nvPicPr>
        <p:blipFill>
          <a:blip r:embed="rId5"/>
          <a:stretch/>
        </p:blipFill>
        <p:spPr>
          <a:xfrm>
            <a:off x="896760" y="5851440"/>
            <a:ext cx="398520" cy="730440"/>
          </a:xfrm>
          <a:prstGeom prst="rect">
            <a:avLst/>
          </a:prstGeom>
          <a:ln w="0">
            <a:noFill/>
          </a:ln>
        </p:spPr>
      </p:pic>
      <p:cxnSp>
        <p:nvCxnSpPr>
          <p:cNvPr id="375" name=""/>
          <p:cNvCxnSpPr>
            <a:stCxn id="374" idx="3"/>
            <a:endCxn id="373" idx="1"/>
          </p:cNvCxnSpPr>
          <p:nvPr/>
        </p:nvCxnSpPr>
        <p:spPr>
          <a:xfrm>
            <a:off x="1295280" y="6216120"/>
            <a:ext cx="457920" cy="2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376" name=""/>
          <p:cNvCxnSpPr>
            <a:stCxn id="373" idx="3"/>
            <a:endCxn id="357" idx="1"/>
          </p:cNvCxnSpPr>
          <p:nvPr/>
        </p:nvCxnSpPr>
        <p:spPr>
          <a:xfrm flipV="1">
            <a:off x="2666520" y="5455440"/>
            <a:ext cx="839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77" name=""/>
          <p:cNvGraphicFramePr/>
          <p:nvPr/>
        </p:nvGraphicFramePr>
        <p:xfrm>
          <a:off x="3990960" y="3157560"/>
          <a:ext cx="781200" cy="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0960" y="3157560"/>
                    <a:ext cx="781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9" name=""/>
          <p:cNvCxnSpPr>
            <a:stCxn id="345" idx="2"/>
            <a:endCxn id="331" idx="0"/>
          </p:cNvCxnSpPr>
          <p:nvPr/>
        </p:nvCxnSpPr>
        <p:spPr>
          <a:xfrm flipH="1">
            <a:off x="4114440" y="3695400"/>
            <a:ext cx="9151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31" idx="0"/>
            <a:endCxn id="350" idx="2"/>
          </p:cNvCxnSpPr>
          <p:nvPr/>
        </p:nvCxnSpPr>
        <p:spPr>
          <a:xfrm flipH="1" flipV="1">
            <a:off x="3276360" y="3695040"/>
            <a:ext cx="8388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90440" y="4762440"/>
            <a:ext cx="12193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 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om Liter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3"/>
            <a:endCxn id="353" idx="1"/>
          </p:cNvCxnSpPr>
          <p:nvPr/>
        </p:nvCxnSpPr>
        <p:spPr>
          <a:xfrm>
            <a:off x="1409760" y="4965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3390840" y="6210360"/>
            <a:ext cx="14479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Model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65" idx="4"/>
            <a:endCxn id="362" idx="2"/>
          </p:cNvCxnSpPr>
          <p:nvPr/>
        </p:nvCxnSpPr>
        <p:spPr>
          <a:xfrm flipV="1">
            <a:off x="8096400" y="3314520"/>
            <a:ext cx="705240" cy="22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67" idx="3"/>
            <a:endCxn id="362" idx="0"/>
          </p:cNvCxnSpPr>
          <p:nvPr/>
        </p:nvCxnSpPr>
        <p:spPr>
          <a:xfrm>
            <a:off x="8133840" y="914040"/>
            <a:ext cx="6678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61" idx="3"/>
            <a:endCxn id="362" idx="1"/>
          </p:cNvCxnSpPr>
          <p:nvPr/>
        </p:nvCxnSpPr>
        <p:spPr>
          <a:xfrm>
            <a:off x="8248680" y="3161880"/>
            <a:ext cx="21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28600" y="5791320"/>
            <a:ext cx="990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B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wissPr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457200"/>
            <a:ext cx="685800" cy="8380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t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8" idx="3"/>
            <a:endCxn id="355" idx="0"/>
          </p:cNvCxnSpPr>
          <p:nvPr/>
        </p:nvCxnSpPr>
        <p:spPr>
          <a:xfrm>
            <a:off x="2857320" y="1294920"/>
            <a:ext cx="229320" cy="17917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90" name=""/>
          <p:cNvSpPr/>
          <p:nvPr/>
        </p:nvSpPr>
        <p:spPr>
          <a:xfrm>
            <a:off x="0" y="1600200"/>
            <a:ext cx="1600200" cy="93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s, 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B Cross re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berra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Construct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inser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3835440"/>
            <a:ext cx="99036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66960" y="3657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1" idx="3"/>
            <a:endCxn id="392" idx="1"/>
          </p:cNvCxnSpPr>
          <p:nvPr/>
        </p:nvCxnSpPr>
        <p:spPr>
          <a:xfrm>
            <a:off x="1295280" y="40381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38160" y="2971800"/>
            <a:ext cx="685800" cy="38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76240" y="2895480"/>
            <a:ext cx="685800" cy="53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olog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5" idx="3"/>
            <a:endCxn id="397" idx="1"/>
          </p:cNvCxnSpPr>
          <p:nvPr/>
        </p:nvCxnSpPr>
        <p:spPr>
          <a:xfrm>
            <a:off x="1561680" y="31618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7" idx="3"/>
            <a:endCxn id="355" idx="1"/>
          </p:cNvCxnSpPr>
          <p:nvPr/>
        </p:nvCxnSpPr>
        <p:spPr>
          <a:xfrm>
            <a:off x="2552760" y="3161880"/>
            <a:ext cx="496080" cy="10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99" name=""/>
          <p:cNvCxnSpPr>
            <a:stCxn id="390" idx="3"/>
            <a:endCxn id="369" idx="2"/>
          </p:cNvCxnSpPr>
          <p:nvPr/>
        </p:nvCxnSpPr>
        <p:spPr>
          <a:xfrm>
            <a:off x="1599840" y="2068200"/>
            <a:ext cx="19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94" idx="0"/>
            <a:endCxn id="355" idx="0"/>
          </p:cNvCxnSpPr>
          <p:nvPr/>
        </p:nvCxnSpPr>
        <p:spPr>
          <a:xfrm flipH="1" rot="16200000">
            <a:off x="1676160" y="1676160"/>
            <a:ext cx="115200" cy="2706120"/>
          </a:xfrm>
          <a:prstGeom prst="curvedConnector5">
            <a:avLst>
              <a:gd name="adj1" fmla="val -200000"/>
              <a:gd name="adj2" fmla="val 50000"/>
              <a:gd name="adj3" fmla="val -2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1866960" y="278136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V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not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3086280"/>
            <a:ext cx="75960" cy="15228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56000">
            <a:off x="2979360" y="3269880"/>
            <a:ext cx="11916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79000">
            <a:off x="2972880" y="2892600"/>
            <a:ext cx="119160" cy="118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114400">
            <a:off x="3001680" y="3085920"/>
            <a:ext cx="11880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73" idx="3"/>
            <a:endCxn id="401" idx="5"/>
          </p:cNvCxnSpPr>
          <p:nvPr/>
        </p:nvCxnSpPr>
        <p:spPr>
          <a:xfrm flipV="1">
            <a:off x="2666520" y="3343320"/>
            <a:ext cx="399240" cy="28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4724280" y="457200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Apollo chado  adapt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8078000">
            <a:off x="4062240" y="39387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3391200">
            <a:off x="5660640" y="4624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chadx2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8340200">
            <a:off x="5248080" y="16099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report gen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44" idx="3"/>
            <a:endCxn id="410" idx="1"/>
          </p:cNvCxnSpPr>
          <p:nvPr/>
        </p:nvCxnSpPr>
        <p:spPr>
          <a:xfrm>
            <a:off x="4114440" y="3695400"/>
            <a:ext cx="297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86600" y="4038480"/>
            <a:ext cx="808200" cy="6858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brow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GMO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262908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ead-wr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690200">
            <a:off x="2195280" y="4662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4988400">
            <a:off x="2307600" y="210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gobo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505320" y="5029200"/>
            <a:ext cx="1206360" cy="853920"/>
            <a:chOff x="3505320" y="5029200"/>
            <a:chExt cx="1206360" cy="853920"/>
          </a:xfrm>
        </p:grpSpPr>
        <p:pic>
          <p:nvPicPr>
            <p:cNvPr id="414" name="" descr=""/>
            <p:cNvPicPr/>
            <p:nvPr/>
          </p:nvPicPr>
          <p:blipFill>
            <a:blip r:embed="rId10"/>
            <a:stretch/>
          </p:blipFill>
          <p:spPr>
            <a:xfrm>
              <a:off x="3505320" y="502920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3727440" y="528804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XOR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XML Object to Relational Transla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D generator: DDL -&gt;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so generates html, xml, .pl versions of sch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at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connected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yntax Verification: legal XML, correct element nes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Semantic verification: NULLness, cardinality, local ID refere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nected: reference valid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ader-only: constraints, trigg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er: XML -&gt;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mper: DB -&gt; X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n by XML “dumpspec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pping XML to R-DB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1: XML is independent of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ensures modularity, freedom to change one without the other (but why would you want to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must maintain mapping when either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2: XML locked to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don’t have to learn two things, mapping is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see Pro abo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4876920"/>
            <a:ext cx="8534160" cy="1904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XORT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(except primary key -- not visible in XM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w and generic: transaction and referenc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lement n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within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oined table within table -- joining column is implic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eign key table within foreign key colum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module distinctions in chadoX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ations of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dinality,  NULLness, data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685800" y="69840"/>
          <a:ext cx="7696080" cy="67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9840"/>
                    <a:ext cx="7696080" cy="67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bject Reference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How to refer to persistent objects within XM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(a.k.a. foreign key column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Unique Key Value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 can be in XML file or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local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ly for references to objects in same XM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ed not be in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cal ID can be any symbol - def before r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duces duplication within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Global acc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ly only for fe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mple extension mechanism using Per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y key valu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foreign_key_col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primarytable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&lt;keycol1&gt;keyval1&lt;/keycol1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... more key cols if needed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/primarytab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/foreign_key_co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featur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type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   &lt;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           &lt;cv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name&gt;Sequence Ontology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              &lt;/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/cv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       &lt;name&gt;exon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&lt;/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&lt;/type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       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Local I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 id=“SO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Sequence Ontology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term id=“exon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_id&gt;SO&lt;/cv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exon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te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eatur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_id&gt;exon&lt;/type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modu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6440" y="1905120"/>
            <a:ext cx="8737560" cy="384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819520"/>
            <a:ext cx="6933960" cy="4572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Global Acce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feature_relationship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subjfeature_id&gt;GB:g01234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subjfeature_id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rans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okup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lookup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insert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e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dele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upda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2&gt;val2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newval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rce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force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bination of lookup, insert and upd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XML-driven extra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behavior: given an object class and ID, dump all direct values and linktables, with refs to foreign ke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default behavior specified by XML dumpspecs using same DTD with a few ad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dump= all | cols | select | n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test = yes | 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sq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app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around with views, _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use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gene for a gene detail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scaffold for Ap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84680" y="0"/>
            <a:ext cx="4493520" cy="66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&lt;or&gt;CG3139&lt;/or&gt;&lt;or&gt;CG3497&lt;/or&gt;&lt;/unique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mRNA of those gene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mRNA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exo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exo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protei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protei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 test="no"&gt;&lt;or&gt;protein&lt;/or&gt;&lt;or&gt;exon&lt;/or&gt;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feature neither protein n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0"/>
            <a:ext cx="8001000" cy="63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r&gt;CG3139&lt;/or&gt;&lt;or&gt;CG3497&lt;/or&gt;&lt;/unique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mRNA of those genes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type_id&gt;mRNA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exons of those mRNA --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&lt;feature_relationship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ype_id&gt;exon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&lt;-&gt; Apollo Inter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/>
          <p:nvPr/>
        </p:nvSpPr>
        <p:spPr>
          <a:xfrm>
            <a:off x="3086280" y="2247840"/>
            <a:ext cx="243828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91040" y="2362320"/>
            <a:ext cx="38124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3"/>
          </p:cNvCxnSpPr>
          <p:nvPr/>
        </p:nvCxnSpPr>
        <p:spPr>
          <a:xfrm>
            <a:off x="3619440" y="289512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3238560" y="236232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5" idx="1"/>
            <a:endCxn id="446" idx="3"/>
          </p:cNvCxnSpPr>
          <p:nvPr/>
        </p:nvCxnSpPr>
        <p:spPr>
          <a:xfrm flipH="1">
            <a:off x="4939920" y="5113080"/>
            <a:ext cx="11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48" idx="2"/>
            <a:endCxn id="445" idx="0"/>
          </p:cNvCxnSpPr>
          <p:nvPr/>
        </p:nvCxnSpPr>
        <p:spPr>
          <a:xfrm>
            <a:off x="6514920" y="3314880"/>
            <a:ext cx="1080" cy="13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1066680" y="384804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384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236232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51" idx="4"/>
            <a:endCxn id="441" idx="1"/>
          </p:cNvCxnSpPr>
          <p:nvPr/>
        </p:nvCxnSpPr>
        <p:spPr>
          <a:xfrm>
            <a:off x="4723920" y="289512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613404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3404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41" idx="3"/>
            <a:endCxn id="448" idx="1"/>
          </p:cNvCxnSpPr>
          <p:nvPr/>
        </p:nvCxnSpPr>
        <p:spPr>
          <a:xfrm>
            <a:off x="5372280" y="289512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4" name=""/>
          <p:cNvGrpSpPr/>
          <p:nvPr/>
        </p:nvGrpSpPr>
        <p:grpSpPr>
          <a:xfrm>
            <a:off x="3733920" y="4686480"/>
            <a:ext cx="1206360" cy="853920"/>
            <a:chOff x="3733920" y="4686480"/>
            <a:chExt cx="1206360" cy="85392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3733920" y="468648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956040" y="49453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60020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5" idx="1"/>
            <a:endCxn id="457" idx="3"/>
          </p:cNvCxnSpPr>
          <p:nvPr/>
        </p:nvCxnSpPr>
        <p:spPr>
          <a:xfrm flipH="1">
            <a:off x="2361960" y="511308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9" name=""/>
          <p:cNvSpPr/>
          <p:nvPr/>
        </p:nvSpPr>
        <p:spPr>
          <a:xfrm>
            <a:off x="160020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7" idx="0"/>
            <a:endCxn id="459" idx="2"/>
          </p:cNvCxnSpPr>
          <p:nvPr/>
        </p:nvCxnSpPr>
        <p:spPr>
          <a:xfrm flipV="1">
            <a:off x="1980720" y="3314520"/>
            <a:ext cx="1080" cy="138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59" idx="3"/>
            <a:endCxn id="443" idx="1"/>
          </p:cNvCxnSpPr>
          <p:nvPr/>
        </p:nvCxnSpPr>
        <p:spPr>
          <a:xfrm>
            <a:off x="2362320" y="2895120"/>
            <a:ext cx="8769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 Conc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ML fil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s nex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ug Apollo / chado roundtr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V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que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compli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 relationship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 ex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tics module - review in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ess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I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-permeable XML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mapping, let schema v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 for schema evolution -- 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-grained coupling of modules made possible by XML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lei Zhou - loader, dumper, XML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nk Smutniak - game2chadx, chadx2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in Wiel - gadfly2chado migration,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Emmert - schema, mi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is Mungall, Suzi Lewis - schema, 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 Letovsky - XML/tool design, dtd gen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an Russo, Mark Z -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 Gilbert - XML custo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tt Cain - GBROWSE/Ch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n Day - schema (expres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mar Lapp - ROI query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04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3894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94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886200" y="0"/>
          <a:ext cx="45036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0"/>
                    <a:ext cx="450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553080" y="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spliced transcrip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17" idx="0"/>
            <a:endCxn id="115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83544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6477120" y="4038480"/>
            <a:ext cx="761760" cy="20574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3429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nd transcript (alt. Splicing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62" idx="0"/>
            <a:endCxn id="160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4267080" y="2514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15000" y="2438280"/>
            <a:ext cx="228600" cy="76212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809880"/>
            <a:ext cx="2743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3809520"/>
            <a:ext cx="60984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791320" y="3809520"/>
            <a:ext cx="30456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629400" y="3809520"/>
            <a:ext cx="45720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809880"/>
            <a:ext cx="762120" cy="2286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2971800"/>
            <a:ext cx="17524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2971800"/>
            <a:ext cx="990720" cy="3124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09720" y="2971800"/>
            <a:ext cx="30492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286000"/>
            <a:ext cx="914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5104800" y="243828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0" name=""/>
          <p:cNvCxnSpPr/>
          <p:nvPr/>
        </p:nvCxnSpPr>
        <p:spPr>
          <a:xfrm rot="5400000">
            <a:off x="4457160" y="3162240"/>
            <a:ext cx="838800" cy="457920"/>
          </a:xfrm>
          <a:prstGeom prst="curvedConnector5">
            <a:avLst>
              <a:gd name="adj1" fmla="val 49978"/>
              <a:gd name="adj2" fmla="val 49960"/>
              <a:gd name="adj3" fmla="val 49978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0" idx="0"/>
          </p:cNvCxnSpPr>
          <p:nvPr/>
        </p:nvCxnSpPr>
        <p:spPr>
          <a:xfrm rot="5400000">
            <a:off x="3399840" y="3961080"/>
            <a:ext cx="1276560" cy="915120"/>
          </a:xfrm>
          <a:prstGeom prst="curvedConnector5">
            <a:avLst>
              <a:gd name="adj1" fmla="val 33201"/>
              <a:gd name="adj2" fmla="val 49980"/>
              <a:gd name="adj3" fmla="val 3320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057400" y="4343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34290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ological Cases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-splic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7240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876920" y="1828800"/>
            <a:ext cx="4114800" cy="368280"/>
            <a:chOff x="4876920" y="1828800"/>
            <a:chExt cx="4114800" cy="368280"/>
          </a:xfrm>
        </p:grpSpPr>
        <p:sp>
          <p:nvSpPr>
            <p:cNvPr id="222" name=""/>
            <p:cNvSpPr/>
            <p:nvPr/>
          </p:nvSpPr>
          <p:spPr>
            <a:xfrm>
              <a:off x="777240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e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6920" y="2057400"/>
              <a:ext cx="106668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3733920"/>
            <a:ext cx="22860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4191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3733920"/>
            <a:ext cx="3808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86400" y="3733920"/>
            <a:ext cx="6094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933960" y="3733920"/>
            <a:ext cx="15228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248520" y="3733920"/>
            <a:ext cx="30456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3" idx="0"/>
            <a:endCxn id="217" idx="0"/>
          </p:cNvCxnSpPr>
          <p:nvPr/>
        </p:nvCxnSpPr>
        <p:spPr>
          <a:xfrm rot="5400000">
            <a:off x="2742480" y="4019760"/>
            <a:ext cx="1372320" cy="762480"/>
          </a:xfrm>
          <a:prstGeom prst="curvedConnector5">
            <a:avLst>
              <a:gd name="adj1" fmla="val 59590"/>
              <a:gd name="adj2" fmla="val 49976"/>
              <a:gd name="adj3" fmla="val 5959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endCxn id="252" idx="0"/>
          </p:cNvCxnSpPr>
          <p:nvPr/>
        </p:nvCxnSpPr>
        <p:spPr>
          <a:xfrm rot="5400000">
            <a:off x="4028400" y="2676600"/>
            <a:ext cx="629280" cy="457920"/>
          </a:xfrm>
          <a:prstGeom prst="curvedConnector5">
            <a:avLst>
              <a:gd name="adj1" fmla="val 32283"/>
              <a:gd name="adj2" fmla="val 26514"/>
              <a:gd name="adj3" fmla="val 32283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53" name=""/>
          <p:cNvCxnSpPr/>
          <p:nvPr/>
        </p:nvCxnSpPr>
        <p:spPr>
          <a:xfrm rot="5400000">
            <a:off x="5142600" y="2095200"/>
            <a:ext cx="457920" cy="3819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705720" y="3733920"/>
            <a:ext cx="53316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200400"/>
            <a:ext cx="28954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590920"/>
            <a:ext cx="23619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95680" y="3200400"/>
            <a:ext cx="5335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171840" y="3200400"/>
            <a:ext cx="3049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3352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59" idx="0"/>
          </p:cNvCxnSpPr>
          <p:nvPr/>
        </p:nvCxnSpPr>
        <p:spPr>
          <a:xfrm flipH="1" rot="16200000">
            <a:off x="6828480" y="4314600"/>
            <a:ext cx="1353240" cy="229320"/>
          </a:xfrm>
          <a:prstGeom prst="curvedConnector5">
            <a:avLst>
              <a:gd name="adj1" fmla="val 49281"/>
              <a:gd name="adj2" fmla="val 50000"/>
              <a:gd name="adj3" fmla="val 4928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972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580920" y="3733920"/>
            <a:ext cx="68580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3200400"/>
            <a:ext cx="30492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57440" y="2590920"/>
            <a:ext cx="609480" cy="609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590920"/>
            <a:ext cx="762120" cy="3504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irwise Align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64832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3962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33520" y="2286000"/>
            <a:ext cx="2361960" cy="368280"/>
            <a:chOff x="533520" y="2286000"/>
            <a:chExt cx="2361960" cy="368280"/>
          </a:xfrm>
        </p:grpSpPr>
        <p:sp>
          <p:nvSpPr>
            <p:cNvPr id="280" name=""/>
            <p:cNvSpPr/>
            <p:nvPr/>
          </p:nvSpPr>
          <p:spPr>
            <a:xfrm>
              <a:off x="533520" y="2468520"/>
              <a:ext cx="380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22860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turel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0866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198108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666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248520" y="1980720"/>
            <a:ext cx="1066680" cy="4115160"/>
            <a:chOff x="6248520" y="1980720"/>
            <a:chExt cx="1066680" cy="4115160"/>
          </a:xfrm>
        </p:grpSpPr>
        <p:sp>
          <p:nvSpPr>
            <p:cNvPr id="287" name=""/>
            <p:cNvSpPr/>
            <p:nvPr/>
          </p:nvSpPr>
          <p:spPr>
            <a:xfrm>
              <a:off x="6248520" y="4114800"/>
              <a:ext cx="10666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4114800"/>
              <a:ext cx="0" cy="19810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629400" y="1980720"/>
              <a:ext cx="0" cy="21337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76920" y="1980720"/>
            <a:ext cx="2971800" cy="4115160"/>
            <a:chOff x="4876920" y="1980720"/>
            <a:chExt cx="2971800" cy="4115160"/>
          </a:xfrm>
        </p:grpSpPr>
        <p:sp>
          <p:nvSpPr>
            <p:cNvPr id="291" name=""/>
            <p:cNvSpPr/>
            <p:nvPr/>
          </p:nvSpPr>
          <p:spPr>
            <a:xfrm>
              <a:off x="4876920" y="4495680"/>
              <a:ext cx="25146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81680" y="4495680"/>
              <a:ext cx="0" cy="16002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781680" y="1980720"/>
              <a:ext cx="0" cy="25146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/>
            <p:nvPr/>
          </p:nvCxnSpPr>
          <p:spPr>
            <a:xfrm flipH="1" flipV="1">
              <a:off x="5562000" y="4146480"/>
              <a:ext cx="610200" cy="31788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295" name=""/>
            <p:cNvCxnSpPr/>
            <p:nvPr/>
          </p:nvCxnSpPr>
          <p:spPr>
            <a:xfrm flipV="1">
              <a:off x="6095880" y="4114440"/>
              <a:ext cx="610560" cy="38160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sp>
          <p:nvSpPr>
            <p:cNvPr id="296" name=""/>
            <p:cNvSpPr/>
            <p:nvPr/>
          </p:nvSpPr>
          <p:spPr>
            <a:xfrm>
              <a:off x="6858000" y="4191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ffff"/>
                  </a:solidFill>
                  <a:latin typeface="Times New Roman"/>
                </a:rPr>
                <a:t>par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47242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38680" y="2819520"/>
            <a:ext cx="0" cy="12952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31240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274320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0:41:40Z</dcterms:created>
  <dc:creator>Stan Letovsky</dc:creator>
  <dc:description/>
  <dc:language>en-US</dc:language>
  <cp:lastModifiedBy>Stan Letovsky</cp:lastModifiedBy>
  <dcterms:modified xsi:type="dcterms:W3CDTF">2003-05-02T16:54:07Z</dcterms:modified>
  <cp:revision>95</cp:revision>
  <dc:subject/>
  <dc:title>No Slide Title</dc:title>
</cp:coreProperties>
</file>